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E20B-05D8-403E-897D-98047ACA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F9FD-9B4A-409F-8E20-C9965380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9027-7AA1-4763-B64A-985911B2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C02F-CCA8-43C8-80FB-9228FC91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E42A-1703-4A11-8F6D-26DD04B6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811B-24D7-4827-BE00-2568854F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C99E-A470-4E24-8760-11BAB877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FD1C-D232-45C2-BD98-03121258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FAF0-A248-4F36-9E91-DC9B2D1D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C0AD-2615-4847-A277-7E96268A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747A-7BEA-4722-9B8C-E779B98F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FE7E-93B0-4DD4-9431-3191B3DE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C5E8-171E-45F7-8081-2FD899AF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DF88-2780-4C53-9ED9-74CB6A7F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9A76-A245-49F7-9B48-5418ABBB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B910-A672-4E6E-918D-F9D034DB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B155-3507-442B-A22A-E29D5AB7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C3E34-4379-448E-AE7B-902E5254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BBCD-8A38-4425-9669-A5FFDBFC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7AB1-8049-4DE2-9046-B0EE5D62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9C9B-14FA-4D9B-B4A3-67E456D7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5D15-632D-47A2-AB39-74EFB6AC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4C83-77AD-4587-A876-244E983D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C398-DA32-4266-A2D4-0B9AE13A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1327-18DB-4B28-A1A8-AEDE5C6412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BDF9-AC22-4451-80B7-2E9A4A1E4D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Derek Jeter 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55560" y="4057200"/>
            <a:ext cx="545148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: Brendan Shephe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Majors2"/>
          <p:cNvPicPr/>
          <p:nvPr/>
        </p:nvPicPr>
        <p:blipFill>
          <a:blip r:embed="rId1"/>
          <a:stretch/>
        </p:blipFill>
        <p:spPr>
          <a:xfrm>
            <a:off x="6248520" y="1447920"/>
            <a:ext cx="2849400" cy="3352680"/>
          </a:xfrm>
          <a:prstGeom prst="rect">
            <a:avLst/>
          </a:prstGeom>
          <a:ln w="0">
            <a:noFill/>
          </a:ln>
        </p:spPr>
      </p:pic>
      <p:pic>
        <p:nvPicPr>
          <p:cNvPr id="117" name="03 Boomin'-Opera Trip.wma" descr=""/>
          <p:cNvPicPr/>
          <p:nvPr/>
        </p:nvPicPr>
        <p:blipFill>
          <a:blip r:embed="rId2"/>
          <a:stretch/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ildhoo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ek was born on June 2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974 in Pequannock, New Jers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ek played Basketball and Baseb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erek was 6, he moved to Kalamazoo Michig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dream was to become a Yank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Yankees2.jpg"/>
          <p:cNvPicPr/>
          <p:nvPr/>
        </p:nvPicPr>
        <p:blipFill>
          <a:blip r:embed="rId1"/>
          <a:stretch/>
        </p:blipFill>
        <p:spPr>
          <a:xfrm>
            <a:off x="6781680" y="4952880"/>
            <a:ext cx="1981440" cy="148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igh School and Colle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k went to Kalamazoo Central High School, where he won several a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ter was the 1992 High School Player of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k was the 1992 Gatorade Athlete of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raduating High School, the New York Yankees drafted Derek in June of 19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ent to University of Michigan Col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1993 Most Outstanding Prosp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Michigan.jpg"/>
          <p:cNvPicPr/>
          <p:nvPr/>
        </p:nvPicPr>
        <p:blipFill>
          <a:blip r:embed="rId1"/>
          <a:stretch/>
        </p:blipFill>
        <p:spPr>
          <a:xfrm>
            <a:off x="7848720" y="4838760"/>
            <a:ext cx="1295280" cy="974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ajors3.jpg"/>
          <p:cNvPicPr/>
          <p:nvPr/>
        </p:nvPicPr>
        <p:blipFill>
          <a:blip r:embed="rId2"/>
          <a:stretch/>
        </p:blipFill>
        <p:spPr>
          <a:xfrm>
            <a:off x="0" y="2514600"/>
            <a:ext cx="1754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ino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is first year of the Minor Leagues, He batted .295 with 5 home ru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better next sea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or League Player of the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95 Yankees Shortstop hu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to play in the Majo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Minors.jpg"/>
          <p:cNvPicPr/>
          <p:nvPr/>
        </p:nvPicPr>
        <p:blipFill>
          <a:blip r:embed="rId1"/>
          <a:stretch/>
        </p:blipFill>
        <p:spPr>
          <a:xfrm>
            <a:off x="152280" y="5029200"/>
            <a:ext cx="2057400" cy="166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Yankees2.jpg"/>
          <p:cNvPicPr/>
          <p:nvPr/>
        </p:nvPicPr>
        <p:blipFill>
          <a:blip r:embed="rId2"/>
          <a:stretch/>
        </p:blipFill>
        <p:spPr>
          <a:xfrm>
            <a:off x="6629400" y="47242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Yankees.jpg"/>
          <p:cNvPicPr/>
          <p:nvPr/>
        </p:nvPicPr>
        <p:blipFill>
          <a:blip r:embed="rId3"/>
          <a:stretch/>
        </p:blipFill>
        <p:spPr>
          <a:xfrm>
            <a:off x="6400800" y="380880"/>
            <a:ext cx="2362320" cy="1479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Majo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k’s Major League Debut was on May 2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995 vs.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ttle Mari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996, Derek became a full-time MLB P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is First Year in The MLB, he battled .314 with 10 home-runs and his fielding percentage was .9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k helped the Yankees beat the Braves in the 1996 World S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ter won the 1996 Rookie of the Year A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k helped the Yankees win the World Series in 1998,1999, and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k was the 2000 World Series MV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Yankee opening day Rookie Shortstop since 19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313 career Post-Season Batting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2001, Derek got a new Nickname. His nickname is “Mr. Novemb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2003, Derek Jeter was named The Yankees Team Capt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September 11, 2009 Derek Jeter broke Lou Gehrig's Yankees' all-time hit reco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Majors.jpg"/>
          <p:cNvPicPr/>
          <p:nvPr/>
        </p:nvPicPr>
        <p:blipFill>
          <a:blip r:embed="rId1"/>
          <a:stretch/>
        </p:blipFill>
        <p:spPr>
          <a:xfrm>
            <a:off x="0" y="0"/>
            <a:ext cx="263196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Derek Jeter.jpg"/>
          <p:cNvPicPr/>
          <p:nvPr/>
        </p:nvPicPr>
        <p:blipFill>
          <a:blip r:embed="rId2"/>
          <a:stretch/>
        </p:blipFill>
        <p:spPr>
          <a:xfrm>
            <a:off x="6095880" y="227160"/>
            <a:ext cx="1600200" cy="12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Majors broken record.jpg"/>
          <p:cNvPicPr/>
          <p:nvPr/>
        </p:nvPicPr>
        <p:blipFill>
          <a:blip r:embed="rId3"/>
          <a:stretch/>
        </p:blipFill>
        <p:spPr>
          <a:xfrm>
            <a:off x="8077320" y="4114800"/>
            <a:ext cx="838080" cy="128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ope you learned a lot today about Derek Je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2:12:19Z</dcterms:created>
  <dc:creator>Lakeview School District</dc:creator>
  <dc:description/>
  <dc:language>en-US</dc:language>
  <cp:lastModifiedBy>Lakeview School District</cp:lastModifiedBy>
  <dcterms:modified xsi:type="dcterms:W3CDTF">2011-04-27T12:39:51Z</dcterms:modified>
  <cp:revision>10</cp:revision>
  <dc:subject/>
  <dc:title> Derek Jeter </dc:title>
</cp:coreProperties>
</file>